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484-EC2F-42BA-98CB-CB7B1D4E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842-CF67-4AEC-91B1-DE35BD4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A4A-EC41-404F-8CE9-85BF056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377-7415-4733-A221-AA8B96A6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409-E269-45BE-A371-FDA7D34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B13-8F1F-4154-AA9F-8F4B084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33A-637D-4A81-AD7B-9B89BFCE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702-6FBF-4D01-AAF6-4E5C8A58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47A-9214-4322-B72E-487C1AE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9C1-5B98-4B06-9E76-7A7EEA5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D31-25C1-4090-8DB2-DDA87EE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182-B085-48DA-BB2B-797A16B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362C-8F10-4186-A9F1-14A240148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5720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stellar"/>
              </a:rPr>
              <a:t>The Signmaker</a:t>
            </a:r>
            <a:r>
              <a:rPr b="1" lang="en-US" sz="6000" spc="-1" strike="noStrike">
                <a:solidFill>
                  <a:srgbClr val="ff0066"/>
                </a:solidFill>
                <a:latin typeface="Arial Rounded MT Bold"/>
              </a:rPr>
              <a:t>’s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 Rounded MT Bold"/>
              </a:rPr>
              <a:t>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295280" y="4572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*Week 5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685800" y="38088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knew the plumber would close the door behind h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85800" y="38088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Dad brought a thick cable to hang the sig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85800" y="38088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promise I will not giggle, mumble, talk, or wriggl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85800" y="380880"/>
            <a:ext cx="79246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must wrap my knee with a little tape the minute I get hom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85800" y="38088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Sorry, I forgot the knife for cutting the limb that was caught on the roof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85800" y="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Put the gnome and the wreath in the yard by the auto so everybody will see the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4:03Z</dcterms:created>
  <dc:creator>llefever</dc:creator>
  <dc:description/>
  <dc:language>en-US</dc:language>
  <cp:lastModifiedBy>teacher</cp:lastModifiedBy>
  <dcterms:modified xsi:type="dcterms:W3CDTF">2011-03-05T09:28:42Z</dcterms:modified>
  <cp:revision>3</cp:revision>
  <dc:subject/>
  <dc:title>The Signmaker’s Assista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9924563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